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CE30C4-5F9D-4904-A3D2-C4F715C305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15A98-C244-4B8C-AAA6-B0413CAD6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E9A687-579C-4168-B75B-C8D8C9C310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D18FC7-2CDB-4CBB-A9A6-DB036F2471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4136F-8815-4219-917A-B3C15AEE8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DD384-BAD2-46A2-A6F2-6C73662FA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5DB73-4621-47A0-B069-18A5CBB6B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EB7AD-4447-4553-BD0F-45193E38B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10647-2F15-426E-AFB1-2661F578F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144A7-6C5A-4C91-B10E-8F09CD313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A04D8-A9A3-4D39-9BD0-6A2EF8C69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F5163-E7F0-40CD-BCAE-6EF8336152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78EF0-C590-4E8C-9957-BBF1F520EC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130120"/>
            <a:ext cx="83822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bstract Program for Experiments</a:t>
            </a:r>
            <a:br>
              <a:rPr sz="4000"/>
            </a:br>
            <a:r>
              <a:rPr b="0" lang="en-US" sz="4000" spc="-1" strike="noStrike">
                <a:solidFill>
                  <a:srgbClr val="000000"/>
                </a:solidFill>
                <a:latin typeface="Arial"/>
              </a:rPr>
              <a:t>(codename APE)</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 – 9 July 2007</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is Steck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stim</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9528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ms – stim parameters set </a:t>
            </a:r>
            <a:r>
              <a:rPr b="0" lang="en-US" sz="2400" spc="-1" strike="noStrike">
                <a:solidFill>
                  <a:srgbClr val="000000"/>
                </a:solidFill>
                <a:latin typeface="Arial"/>
              </a:rPr>
              <a:t>	</a:t>
            </a:r>
            <a:r>
              <a:rPr b="0" lang="en-US" sz="2400" spc="-1" strike="noStrike">
                <a:solidFill>
                  <a:srgbClr val="000000"/>
                </a:solidFill>
                <a:latin typeface="Arial"/>
              </a:rPr>
              <a:t>in experi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 TDT control tags defined </a:t>
            </a:r>
            <a:r>
              <a:rPr b="0" lang="en-US" sz="2400" spc="-1" strike="noStrike">
                <a:solidFill>
                  <a:srgbClr val="000000"/>
                </a:solidFill>
                <a:latin typeface="Arial"/>
              </a:rPr>
              <a:t>	</a:t>
            </a:r>
            <a:r>
              <a:rPr b="0" lang="en-US" sz="2400" spc="-1" strike="noStrike">
                <a:solidFill>
                  <a:srgbClr val="000000"/>
                </a:solidFill>
                <a:latin typeface="Arial"/>
              </a:rPr>
              <a:t>in .rcx fi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 hand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StimFunc – generate tags from param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yFunc – upload tags to RP2</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Func – trigger RP2</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5486400" y="1600200"/>
            <a:ext cx="32004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 – construct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MakeSti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Read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Pres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responder</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5720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ms – stru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Data – struc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 hand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ResponseFunc – make TDT ready (reset latc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esponseFu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FeedbackFu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itForSubjectFu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lDoneFunc</a:t>
            </a:r>
            <a:endParaRPr b="0" lang="en-US" sz="2400" spc="-1" strike="noStrike">
              <a:solidFill>
                <a:srgbClr val="000000"/>
              </a:solidFill>
              <a:latin typeface="Arial"/>
            </a:endParaRPr>
          </a:p>
        </p:txBody>
      </p:sp>
      <p:sp>
        <p:nvSpPr>
          <p:cNvPr id="105" name="PlaceHolder 3"/>
          <p:cNvSpPr>
            <a:spLocks noGrp="1"/>
          </p:cNvSpPr>
          <p:nvPr>
            <p:ph/>
          </p:nvPr>
        </p:nvSpPr>
        <p:spPr>
          <a:xfrm>
            <a:off x="5105520" y="1600200"/>
            <a:ext cx="35812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d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PrepRespons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GetRespons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PresentFeedbac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WaitForSu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TellD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responder</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der ‘typ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s of functions define default or “canned” behavior for different types of respons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default’ uses command line</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 defaultGetResponseFunc(r); etc.</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rbox’ uses TDT rbox</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 rboxGetResponseFunc(r,p); etc. </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s access to presenter object</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gui’ puts up a simple window with N buttons</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 guiGetResponseFunc(r,N)</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gui2’ similar but window is maintained across trials</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 gui2GetResponseFunc(r,N);</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init responder by including ‘type’ as first arg to responder()</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 = responder(‘type’,’rbox’); creates default rbox respon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tracker</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5720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o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 string (‘levitt’) e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s – struc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us – struc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aldata – array of stru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hand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Func – set up trac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Func – update track based on respons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ValueFunc – tell experiment about next sti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otFunc – plot trac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Func – report results (thresh?)</a:t>
            </a:r>
            <a:endParaRPr b="0" lang="en-US" sz="2000" spc="-1" strike="noStrike">
              <a:solidFill>
                <a:srgbClr val="000000"/>
              </a:solidFill>
              <a:latin typeface="Arial"/>
            </a:endParaRPr>
          </a:p>
        </p:txBody>
      </p:sp>
      <p:sp>
        <p:nvSpPr>
          <p:cNvPr id="110" name="PlaceHolder 3"/>
          <p:cNvSpPr>
            <a:spLocks noGrp="1"/>
          </p:cNvSpPr>
          <p:nvPr>
            <p:ph/>
          </p:nvPr>
        </p:nvSpPr>
        <p:spPr>
          <a:xfrm>
            <a:off x="5105520" y="1600200"/>
            <a:ext cx="35812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k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Ini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Upda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NextValu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Plo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Repor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Don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s t.status.d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tracker</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ker ‘typ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for responders, defined collections of functions for different tracker behavio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default’ – not yet defined. likely will be MC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levitt’ – N up / M down adaptive track.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 levittUpdateFunc(t,trial,resp,target); etc</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ts and wastes arbitrary numbers of reversal, shifts between multiple step sizes, etc. </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cs’ – method of constant stimuli</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 mcsUpdateFunc(t,trial); etc</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set tracker type at init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 = tracker(‘type’,’levitt’);</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presenter (slots)</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s – struct, manages activeX handles by dev type </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P2  (array of RP2 actx)</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5 (etc)</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structs similarly manage device dat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uit_files (fields are cell arrays of .rcx or .rco file name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prate (fields contain samprates of RP dev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ags (fields are cell arrays of tag names defined by rcx fil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us (fields are status of each devic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_commands – cell array of arguments to add_devic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by recreate() to create new presenter object identical to this one, but runni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E Objects: presenter (methods)</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er() – construct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_device() – main implementation cal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m_devi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oad_circuit() – force reload from disk, change file or samprate, e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reate() – reinstantiate all (recovers from power dow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_tag_val() – TDT wrapper for SetTagVal and WriteTagV</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_tag_val() – TDT wrapper to GetTagVal and ReadTagV</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_trig() – TDT wrapper to SoftTr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_trig() – TDT wrapper to ZTri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_atten() – control PA5 atten, or set atten_X tags on RP2 / RM1</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5_display() – control display of PA5</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oll_text() – scroll messages on PA5 display (glitch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_TD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lt_TD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experiment (slots)</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ms - struc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params - struc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truc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aldata – array of struct</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er - objec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der - objec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ker – array of tracker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_templates –array or </a:t>
            </a:r>
            <a:r>
              <a:rPr b="0" lang="en-US" sz="2400" spc="-1" strike="noStrike">
                <a:solidFill>
                  <a:srgbClr val="000000"/>
                </a:solidFill>
                <a:latin typeface="Arial"/>
              </a:rPr>
              <a:t>	</a:t>
            </a:r>
            <a:r>
              <a:rPr b="0" lang="en-US" sz="2400" spc="-1" strike="noStrike">
                <a:solidFill>
                  <a:srgbClr val="000000"/>
                </a:solidFill>
                <a:latin typeface="Arial"/>
              </a:rPr>
              <a:t>struct of stim object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al_stim – array of stim </a:t>
            </a:r>
            <a:r>
              <a:rPr b="0" lang="en-US" sz="2400" spc="-1" strike="noStrike">
                <a:solidFill>
                  <a:srgbClr val="000000"/>
                </a:solidFill>
                <a:latin typeface="Arial"/>
              </a:rPr>
              <a:t>	</a:t>
            </a:r>
            <a:r>
              <a:rPr b="0" lang="en-US" sz="2400" spc="-1" strike="noStrike">
                <a:solidFill>
                  <a:srgbClr val="000000"/>
                </a:solidFill>
                <a:latin typeface="Arial"/>
              </a:rPr>
              <a:t>objects</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Fu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TrialFu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TrialFu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TrialFu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useFu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meFu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DataFu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apupFunc</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E Objects: experiment (methods)</a:t>
            </a:r>
            <a:endParaRPr b="0" lang="en-US" sz="40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Init() – init other objects &amp; data structur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PrepTrial() – construct trial_stim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PresentTrial() – present stim, response, feedbac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ReportTrial() – update experimenter’s displa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Pause() – anything that needs doing at paus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Resume() – …at resume (recreate presen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SaveData() – write objects and/or data to dis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Wrapup() – anything el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experiment</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ckers – array of tracker objects</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ld be length 1: single track (default) </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gth 2+: prepTrialFunc should be choosing a track to update on each trial</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stim_templates – can be array of stim objects:</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I may have 20 frozen noise stim. Draw one on each trial</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stim_templates – can be struct of stim objects, e.g.:</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stim_templates.A  defines stim type A, .B defines stim type B</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a stim type for each interval</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ial_stim – the actual stim to call goMakeStim, etc. on</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ld be array of stim, 1 per interval (default)</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ld be single stim whose params are adjusted for each interv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a:t>
            </a:r>
            <a:endParaRPr b="0" lang="en-US" sz="4400" spc="-1" strike="noStrike">
              <a:solidFill>
                <a:srgbClr val="000000"/>
              </a:solidFill>
              <a:latin typeface="Arial"/>
            </a:endParaRPr>
          </a:p>
        </p:txBody>
      </p:sp>
      <p:sp>
        <p:nvSpPr>
          <p:cNvPr id="44" name="PlaceHolder 2"/>
          <p:cNvSpPr>
            <a:spLocks noGrp="1"/>
          </p:cNvSpPr>
          <p:nvPr>
            <p:ph/>
          </p:nvPr>
        </p:nvSpPr>
        <p:spPr>
          <a:xfrm>
            <a:off x="456840" y="1371600"/>
            <a:ext cx="845820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ular framework for experiments usingTDT and MATLAB</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understand program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ing key program elemen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ency of programs across experiment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customize – modular desig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 replace / upgrade modul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multiple vers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anned” modules for common tasks (TDT wrapper, Trackers, etc,)</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Device” independen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 to different TDT (or non-TDT) setups, different method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experiment</a:t>
            </a:r>
            <a:endParaRPr b="0" lang="en-US" sz="4400" spc="-1" strike="noStrike">
              <a:solidFill>
                <a:srgbClr val="000000"/>
              </a:solidFill>
              <a:latin typeface="Arial"/>
            </a:endParaRPr>
          </a:p>
        </p:txBody>
      </p:sp>
      <p:sp>
        <p:nvSpPr>
          <p:cNvPr id="12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aldata - array (1 by Ntrials) of struc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element contains values for all trial-varying parameters and data, e.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ed stimulus parameter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ved stimulus parameter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 interval / correct respons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e and reaction tim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ck tim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 numb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going estimates of threshold, etc?</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kers also define trialdata, but only include trials for that track</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ed valu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e, targe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reversal,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experiment</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experiment objects have sensible ‘default’ behavio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aultResumeFunc() recreates ex.presenter</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s should be overridden by study-specific behavio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aultPrepTrial() </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ex.params.intervals (‘AXXA’)…</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 generate trial_stim ([stimA stimA stimB stimA])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stim contained in stim_templates.A, stim_templates.B, etc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experiment will probably do something differ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experiment</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sing, Saving, Resuming for long ru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 status field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status.currentTrial</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status.paused</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design your main loop using </a:t>
            </a:r>
            <a:r>
              <a:rPr b="0" lang="en-US" sz="2000" spc="-1" strike="noStrike">
                <a:solidFill>
                  <a:srgbClr val="000000"/>
                </a:solidFill>
                <a:latin typeface="Courier New"/>
              </a:rPr>
              <a:t>while</a:t>
            </a:r>
            <a:r>
              <a:rPr b="0" lang="en-US" sz="2000" spc="-1" strike="noStrike">
                <a:solidFill>
                  <a:srgbClr val="000000"/>
                </a:solidFill>
                <a:latin typeface="Arial"/>
              </a:rPr>
              <a:t> rather than </a:t>
            </a:r>
            <a:r>
              <a:rPr b="0" lang="en-US" sz="2000" spc="-1" strike="noStrike">
                <a:solidFill>
                  <a:srgbClr val="000000"/>
                </a:solidFill>
                <a:latin typeface="Courier New"/>
              </a:rPr>
              <a:t>for</a:t>
            </a:r>
            <a:r>
              <a:rPr b="0" lang="en-US" sz="2000" spc="-1" strike="noStrike">
                <a:solidFill>
                  <a:srgbClr val="000000"/>
                </a:solidFill>
                <a:latin typeface="Arial"/>
              </a:rPr>
              <a:t>, or set up your </a:t>
            </a:r>
            <a:r>
              <a:rPr b="0" lang="en-US" sz="2000" spc="-1" strike="noStrike">
                <a:solidFill>
                  <a:srgbClr val="000000"/>
                </a:solidFill>
                <a:latin typeface="Courier New"/>
              </a:rPr>
              <a:t>for</a:t>
            </a:r>
            <a:r>
              <a:rPr b="0" lang="en-US" sz="2000" spc="-1" strike="noStrike">
                <a:solidFill>
                  <a:srgbClr val="000000"/>
                </a:solidFill>
                <a:latin typeface="Arial"/>
              </a:rPr>
              <a:t> loop with ex.status.currentTrial in mind,</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loop can start up at arbitrary trial numbe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on can be “paused,” then “resumed” late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ing ex object to disk allows to resume after loa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T status may have changed…set ex.resumeFunc to call </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x.presenter = recreate(ex.presenter); </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saveDataFunc: save the object, possibly also save xls or dlm fil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eriment programming decisions</a:t>
            </a:r>
            <a:endParaRPr b="0" lang="en-US" sz="40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APE to us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er only (to simplify TDT interfa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er + stim + respond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experiment object only to store data &amp; objects; write presentation, etc. functions directly in main program.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experiment methods (goInit) etc to compartmentalize functions (as subfunctions within main file or separate m-file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tim or two?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experiments could use one stim object, modifying its params between intervals (to turn a tone on / off, et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 is to generate one stim for each interv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most cases, no difference. Choose according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eriment programming decisions</a:t>
            </a:r>
            <a:endParaRPr b="0" lang="en-US" sz="40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 types vs object class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oriented approach allows to incorporate new functionality by subclassing (new objects that inherit behavior of par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E approach has been instead to make objects general enough that different ‘types’ of each object can be created by supplying different function handles and appropriate contents for params, status, etc.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experiment will have its own ‘type’ of stim, responder, tracker, and experiment objects (though many default functions may be used, at least a few will be custom). Some of these custom types (or their component functions) might get re-used in other experiments. </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would subclassing become necessary? Nev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ill to do</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racker typ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example experiment program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icon 16-tracker ripple study, NIH IRN study, UW head-tracked studies, other basic paradigms (single-interval tone-in-noise, etc).</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 integr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tty straightforward. Expect GUI to collect params prior to object initialization, monitor pause, plot track(s), etc.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 “checkli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complete document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l out the MATLAB help</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torial manual</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 Decision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oriented programm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s data in easy-to-maintain stru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ong with relevant functions (class method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regation of m-files by type (e.g. all TDT func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simplify access to hide implementa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presenter.get_tag_val</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expansion / upgrade via subclas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 Decisions 2</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 hand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s store data (e.g. stim.params) and function handles (e.g. stim.makeStimFun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s locking behavior to object method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 doesn’t require subclass for every exp’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ual code for APE objects is </a:t>
            </a:r>
            <a:r>
              <a:rPr b="0" i="1" lang="en-US" sz="2800" spc="-1" strike="noStrike">
                <a:solidFill>
                  <a:srgbClr val="000000"/>
                </a:solidFill>
                <a:latin typeface="Arial"/>
              </a:rPr>
              <a:t>abstract,</a:t>
            </a:r>
            <a:r>
              <a:rPr b="0" lang="en-US" sz="2800" spc="-1" strike="noStrike">
                <a:solidFill>
                  <a:srgbClr val="000000"/>
                </a:solidFill>
                <a:latin typeface="Arial"/>
              </a:rPr>
              <a:t> not specific regarding methods and event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stim.params not stim.freq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 data</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idea: objects have slots which hold structures of dat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s (struct of paramet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u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alda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data</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functions can fill those structures in any appropriate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 functions</a:t>
            </a:r>
            <a:endParaRPr b="0" lang="en-US" sz="4400" spc="-1" strike="noStrike">
              <a:solidFill>
                <a:srgbClr val="000000"/>
              </a:solidFill>
              <a:latin typeface="Arial"/>
            </a:endParaRPr>
          </a:p>
        </p:txBody>
      </p:sp>
      <p:sp>
        <p:nvSpPr>
          <p:cNvPr id="52"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common action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ake a new stimulu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repare the hardware for next trial,”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resent a trial”</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action has two elem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unction that does what needs to happe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ass method “goX” that triggers the funct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unction is specified by a function hand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makeStimFunc</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set by user to </a:t>
            </a:r>
            <a:r>
              <a:rPr b="0" i="1" lang="en-US" sz="2400" spc="-1" strike="noStrike">
                <a:solidFill>
                  <a:srgbClr val="000000"/>
                </a:solidFill>
                <a:latin typeface="Arial"/>
              </a:rPr>
              <a:t>any</a:t>
            </a:r>
            <a:r>
              <a:rPr b="0" lang="en-US" sz="2400" spc="-1" strike="noStrike">
                <a:solidFill>
                  <a:srgbClr val="000000"/>
                </a:solidFill>
                <a:latin typeface="Arial"/>
              </a:rPr>
              <a:t> function on pat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ault functions do appropriate things in most case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s only ever triggered by “goX” in user co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54" name=""/>
          <p:cNvSpPr/>
          <p:nvPr/>
        </p:nvSpPr>
        <p:spPr>
          <a:xfrm>
            <a:off x="2825640" y="1981080"/>
            <a:ext cx="1895400" cy="201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m ob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ra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keStimFun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adyFun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sentFunc</a:t>
            </a:r>
            <a:endParaRPr b="0" lang="en-US" sz="1800" spc="-1" strike="noStrike">
              <a:solidFill>
                <a:srgbClr val="000000"/>
              </a:solidFill>
              <a:latin typeface="Arial"/>
            </a:endParaRPr>
          </a:p>
        </p:txBody>
      </p:sp>
      <p:sp>
        <p:nvSpPr>
          <p:cNvPr id="55" name=""/>
          <p:cNvSpPr/>
          <p:nvPr/>
        </p:nvSpPr>
        <p:spPr>
          <a:xfrm>
            <a:off x="762120" y="1447920"/>
            <a:ext cx="1600200" cy="12952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befre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belev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sklevel</a:t>
            </a:r>
            <a:endParaRPr b="0" lang="en-US" sz="1800" spc="-1" strike="noStrike">
              <a:solidFill>
                <a:srgbClr val="000000"/>
              </a:solidFill>
              <a:latin typeface="Arial"/>
            </a:endParaRPr>
          </a:p>
        </p:txBody>
      </p:sp>
      <p:sp>
        <p:nvSpPr>
          <p:cNvPr id="56" name=""/>
          <p:cNvSpPr/>
          <p:nvPr/>
        </p:nvSpPr>
        <p:spPr>
          <a:xfrm>
            <a:off x="762120" y="3200400"/>
            <a:ext cx="1600200" cy="12952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neFre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neAm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iseAmp</a:t>
            </a:r>
            <a:endParaRPr b="0" lang="en-US" sz="1800" spc="-1" strike="noStrike">
              <a:solidFill>
                <a:srgbClr val="000000"/>
              </a:solidFill>
              <a:latin typeface="Arial"/>
            </a:endParaRPr>
          </a:p>
        </p:txBody>
      </p:sp>
      <p:sp>
        <p:nvSpPr>
          <p:cNvPr id="57" name=""/>
          <p:cNvSpPr/>
          <p:nvPr/>
        </p:nvSpPr>
        <p:spPr>
          <a:xfrm>
            <a:off x="5902200" y="2133720"/>
            <a:ext cx="2743200" cy="146556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MakeStimFunc.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8" name=""/>
          <p:cNvSpPr/>
          <p:nvPr/>
        </p:nvSpPr>
        <p:spPr>
          <a:xfrm flipH="1" flipV="1">
            <a:off x="2361960" y="2209320"/>
            <a:ext cx="60948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H="1">
            <a:off x="2438280" y="2743200"/>
            <a:ext cx="5335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a:off x="4648320" y="1828800"/>
            <a:ext cx="1066680" cy="144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5641200" y="1523880"/>
            <a:ext cx="223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MakeStimFunc</a:t>
            </a:r>
            <a:endParaRPr b="0" lang="en-US" sz="1800" spc="-1" strike="noStrike">
              <a:solidFill>
                <a:srgbClr val="000000"/>
              </a:solidFill>
              <a:latin typeface="Arial"/>
            </a:endParaRPr>
          </a:p>
        </p:txBody>
      </p:sp>
      <p:sp>
        <p:nvSpPr>
          <p:cNvPr id="62" name=""/>
          <p:cNvSpPr/>
          <p:nvPr/>
        </p:nvSpPr>
        <p:spPr>
          <a:xfrm>
            <a:off x="5641920" y="457200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PresentFunc</a:t>
            </a:r>
            <a:endParaRPr b="0" lang="en-US" sz="1800" spc="-1" strike="noStrike">
              <a:solidFill>
                <a:srgbClr val="000000"/>
              </a:solidFill>
              <a:latin typeface="Arial"/>
            </a:endParaRPr>
          </a:p>
        </p:txBody>
      </p:sp>
      <p:sp>
        <p:nvSpPr>
          <p:cNvPr id="63" name=""/>
          <p:cNvSpPr/>
          <p:nvPr/>
        </p:nvSpPr>
        <p:spPr>
          <a:xfrm>
            <a:off x="5642280" y="3886200"/>
            <a:ext cx="22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ReadyFunc</a:t>
            </a:r>
            <a:endParaRPr b="0" lang="en-US" sz="1800" spc="-1" strike="noStrike">
              <a:solidFill>
                <a:srgbClr val="000000"/>
              </a:solidFill>
              <a:latin typeface="Arial"/>
            </a:endParaRPr>
          </a:p>
        </p:txBody>
      </p:sp>
      <p:sp>
        <p:nvSpPr>
          <p:cNvPr id="64" name=""/>
          <p:cNvSpPr/>
          <p:nvPr/>
        </p:nvSpPr>
        <p:spPr>
          <a:xfrm>
            <a:off x="4343400" y="3581280"/>
            <a:ext cx="129528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419720" y="3886200"/>
            <a:ext cx="129528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8"/>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6"/>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1"/>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4"/>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6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5"/>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67" name=""/>
          <p:cNvSpPr/>
          <p:nvPr/>
        </p:nvSpPr>
        <p:spPr>
          <a:xfrm>
            <a:off x="2825640" y="1981080"/>
            <a:ext cx="1895400" cy="201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m ob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ra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keStimFun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adyFun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sentFunc</a:t>
            </a:r>
            <a:endParaRPr b="0" lang="en-US" sz="1800" spc="-1" strike="noStrike">
              <a:solidFill>
                <a:srgbClr val="000000"/>
              </a:solidFill>
              <a:latin typeface="Arial"/>
            </a:endParaRPr>
          </a:p>
        </p:txBody>
      </p:sp>
      <p:sp>
        <p:nvSpPr>
          <p:cNvPr id="68" name=""/>
          <p:cNvSpPr/>
          <p:nvPr/>
        </p:nvSpPr>
        <p:spPr>
          <a:xfrm>
            <a:off x="5902200" y="5029200"/>
            <a:ext cx="2743200" cy="146556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PresentFunc.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9" name=""/>
          <p:cNvSpPr/>
          <p:nvPr/>
        </p:nvSpPr>
        <p:spPr>
          <a:xfrm>
            <a:off x="2666880" y="5029200"/>
            <a:ext cx="2419560" cy="146556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PresentFunc.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0" name=""/>
          <p:cNvSpPr/>
          <p:nvPr/>
        </p:nvSpPr>
        <p:spPr>
          <a:xfrm>
            <a:off x="762120" y="1447920"/>
            <a:ext cx="1600200" cy="12952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befre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belev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sklevel</a:t>
            </a:r>
            <a:endParaRPr b="0" lang="en-US" sz="1800" spc="-1" strike="noStrike">
              <a:solidFill>
                <a:srgbClr val="000000"/>
              </a:solidFill>
              <a:latin typeface="Arial"/>
            </a:endParaRPr>
          </a:p>
        </p:txBody>
      </p:sp>
      <p:sp>
        <p:nvSpPr>
          <p:cNvPr id="71" name=""/>
          <p:cNvSpPr/>
          <p:nvPr/>
        </p:nvSpPr>
        <p:spPr>
          <a:xfrm>
            <a:off x="762120" y="3200400"/>
            <a:ext cx="1600200" cy="12952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neFre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neAm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iseAmp</a:t>
            </a:r>
            <a:endParaRPr b="0" lang="en-US" sz="1800" spc="-1" strike="noStrike">
              <a:solidFill>
                <a:srgbClr val="000000"/>
              </a:solidFill>
              <a:latin typeface="Arial"/>
            </a:endParaRPr>
          </a:p>
        </p:txBody>
      </p:sp>
      <p:sp>
        <p:nvSpPr>
          <p:cNvPr id="72" name=""/>
          <p:cNvSpPr/>
          <p:nvPr/>
        </p:nvSpPr>
        <p:spPr>
          <a:xfrm>
            <a:off x="5902200" y="2133720"/>
            <a:ext cx="2743200" cy="146556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MakeStimFunc.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3" name=""/>
          <p:cNvSpPr/>
          <p:nvPr/>
        </p:nvSpPr>
        <p:spPr>
          <a:xfrm flipH="1" flipV="1">
            <a:off x="2361960" y="2209320"/>
            <a:ext cx="60948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a:off x="2438280" y="2743200"/>
            <a:ext cx="5335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V="1">
            <a:off x="4648320" y="1828800"/>
            <a:ext cx="1066680" cy="144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641200" y="1523880"/>
            <a:ext cx="223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MakeStimFunc</a:t>
            </a:r>
            <a:endParaRPr b="0" lang="en-US" sz="1800" spc="-1" strike="noStrike">
              <a:solidFill>
                <a:srgbClr val="000000"/>
              </a:solidFill>
              <a:latin typeface="Arial"/>
            </a:endParaRPr>
          </a:p>
        </p:txBody>
      </p:sp>
      <p:sp>
        <p:nvSpPr>
          <p:cNvPr id="77" name=""/>
          <p:cNvSpPr/>
          <p:nvPr/>
        </p:nvSpPr>
        <p:spPr>
          <a:xfrm>
            <a:off x="2669400" y="4572000"/>
            <a:ext cx="201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PresentFunc</a:t>
            </a:r>
            <a:endParaRPr b="0" lang="en-US" sz="1800" spc="-1" strike="noStrike">
              <a:solidFill>
                <a:srgbClr val="000000"/>
              </a:solidFill>
              <a:latin typeface="Arial"/>
            </a:endParaRPr>
          </a:p>
        </p:txBody>
      </p:sp>
      <p:sp>
        <p:nvSpPr>
          <p:cNvPr id="78" name=""/>
          <p:cNvSpPr/>
          <p:nvPr/>
        </p:nvSpPr>
        <p:spPr>
          <a:xfrm>
            <a:off x="5641920" y="457200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PresentFunc</a:t>
            </a:r>
            <a:endParaRPr b="0" lang="en-US" sz="1800" spc="-1" strike="noStrike">
              <a:solidFill>
                <a:srgbClr val="000000"/>
              </a:solidFill>
              <a:latin typeface="Arial"/>
            </a:endParaRPr>
          </a:p>
        </p:txBody>
      </p:sp>
      <p:sp>
        <p:nvSpPr>
          <p:cNvPr id="79" name=""/>
          <p:cNvSpPr/>
          <p:nvPr/>
        </p:nvSpPr>
        <p:spPr>
          <a:xfrm>
            <a:off x="5642280" y="3886200"/>
            <a:ext cx="22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ReadyFunc</a:t>
            </a:r>
            <a:endParaRPr b="0" lang="en-US" sz="1800" spc="-1" strike="noStrike">
              <a:solidFill>
                <a:srgbClr val="000000"/>
              </a:solidFill>
              <a:latin typeface="Arial"/>
            </a:endParaRPr>
          </a:p>
        </p:txBody>
      </p:sp>
      <p:sp>
        <p:nvSpPr>
          <p:cNvPr id="80" name=""/>
          <p:cNvSpPr/>
          <p:nvPr/>
        </p:nvSpPr>
        <p:spPr>
          <a:xfrm>
            <a:off x="4343400" y="3581280"/>
            <a:ext cx="129528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419720" y="3886200"/>
            <a:ext cx="129528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a:off x="3429000" y="3962520"/>
            <a:ext cx="38088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9"/>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xit" presetID="1">
                                  <p:stCondLst>
                                    <p:cond delay="0"/>
                                  </p:stCondLst>
                                  <p:childTnLst>
                                    <p:set>
                                      <p:cBhvr>
                                        <p:cTn id="46" dur="1" fill="hold">
                                          <p:stCondLst>
                                            <p:cond delay="0"/>
                                          </p:stCondLst>
                                        </p:cTn>
                                        <p:tgtEl>
                                          <p:spTgt spid="81"/>
                                        </p:tgtEl>
                                        <p:attrNameLst>
                                          <p:attrName>style.visibility</p:attrName>
                                        </p:attrNameLst>
                                      </p:cBhvr>
                                      <p:to>
                                        <p:strVal val="hidden"/>
                                      </p:to>
                                    </p:set>
                                  </p:childTnLst>
                                </p:cTn>
                              </p:par>
                              <p:par>
                                <p:cTn id="47" nodeType="withEffect" fill="hold" presetClass="exit" presetID="1">
                                  <p:stCondLst>
                                    <p:cond delay="0"/>
                                  </p:stCondLst>
                                  <p:childTnLst>
                                    <p:set>
                                      <p:cBhvr>
                                        <p:cTn id="48" dur="1" fill="hold">
                                          <p:stCondLst>
                                            <p:cond delay="0"/>
                                          </p:stCondLst>
                                        </p:cTn>
                                        <p:tgtEl>
                                          <p:spTgt spid="78"/>
                                        </p:tgtEl>
                                        <p:attrNameLst>
                                          <p:attrName>style.visibility</p:attrName>
                                        </p:attrNameLst>
                                      </p:cBhvr>
                                      <p:to>
                                        <p:strVal val="hidden"/>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82"/>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a:t>
            </a:r>
            <a:endParaRPr b="0" lang="en-US" sz="4400" spc="-1" strike="noStrike">
              <a:solidFill>
                <a:srgbClr val="000000"/>
              </a:solidFill>
              <a:latin typeface="Arial"/>
            </a:endParaRPr>
          </a:p>
        </p:txBody>
      </p:sp>
      <p:sp>
        <p:nvSpPr>
          <p:cNvPr id="84" name=""/>
          <p:cNvSpPr/>
          <p:nvPr/>
        </p:nvSpPr>
        <p:spPr>
          <a:xfrm>
            <a:off x="2980800" y="1371600"/>
            <a:ext cx="3236400" cy="119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ains other obje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nages main lo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andles save/pause/resume</a:t>
            </a:r>
            <a:endParaRPr b="0" lang="en-US" sz="1800" spc="-1" strike="noStrike">
              <a:solidFill>
                <a:srgbClr val="000000"/>
              </a:solidFill>
              <a:latin typeface="Arial"/>
            </a:endParaRPr>
          </a:p>
        </p:txBody>
      </p:sp>
      <p:sp>
        <p:nvSpPr>
          <p:cNvPr id="85" name=""/>
          <p:cNvSpPr/>
          <p:nvPr/>
        </p:nvSpPr>
        <p:spPr>
          <a:xfrm>
            <a:off x="5799240" y="3276720"/>
            <a:ext cx="3111480" cy="119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ck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termines next sti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cks / plots perform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rresponds to single track</a:t>
            </a:r>
            <a:endParaRPr b="0" lang="en-US" sz="1800" spc="-1" strike="noStrike">
              <a:solidFill>
                <a:srgbClr val="000000"/>
              </a:solidFill>
              <a:latin typeface="Arial"/>
            </a:endParaRPr>
          </a:p>
        </p:txBody>
      </p:sp>
      <p:sp>
        <p:nvSpPr>
          <p:cNvPr id="86" name=""/>
          <p:cNvSpPr/>
          <p:nvPr/>
        </p:nvSpPr>
        <p:spPr>
          <a:xfrm>
            <a:off x="616320" y="5200560"/>
            <a:ext cx="4536360" cy="119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rapper for TDT / stores activeX contro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vides access to TDT tags &amp; settin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ores info necessary to recreate itself</a:t>
            </a:r>
            <a:endParaRPr b="0" lang="en-US" sz="1800" spc="-1" strike="noStrike">
              <a:solidFill>
                <a:srgbClr val="000000"/>
              </a:solidFill>
              <a:latin typeface="Arial"/>
            </a:endParaRPr>
          </a:p>
        </p:txBody>
      </p:sp>
      <p:sp>
        <p:nvSpPr>
          <p:cNvPr id="87" name=""/>
          <p:cNvSpPr/>
          <p:nvPr/>
        </p:nvSpPr>
        <p:spPr>
          <a:xfrm>
            <a:off x="3283560" y="3276720"/>
            <a:ext cx="2300760" cy="119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rface to sub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llects respon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sents feedback</a:t>
            </a:r>
            <a:endParaRPr b="0" lang="en-US" sz="1800" spc="-1" strike="noStrike">
              <a:solidFill>
                <a:srgbClr val="000000"/>
              </a:solidFill>
              <a:latin typeface="Arial"/>
            </a:endParaRPr>
          </a:p>
        </p:txBody>
      </p:sp>
      <p:sp>
        <p:nvSpPr>
          <p:cNvPr id="88" name=""/>
          <p:cNvSpPr/>
          <p:nvPr/>
        </p:nvSpPr>
        <p:spPr>
          <a:xfrm>
            <a:off x="235080" y="3124080"/>
            <a:ext cx="2822040" cy="1465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cipe for stimul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ores stim para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verts params to tags</a:t>
            </a:r>
            <a:br>
              <a:rPr sz="1800"/>
            </a:br>
            <a:r>
              <a:rPr b="0" lang="en-US" sz="1800" spc="-1" strike="noStrike">
                <a:solidFill>
                  <a:srgbClr val="000000"/>
                </a:solidFill>
                <a:latin typeface="Arial"/>
              </a:rPr>
              <a:t>     (TDT settings)</a:t>
            </a:r>
            <a:endParaRPr b="0" lang="en-US" sz="1800" spc="-1" strike="noStrike">
              <a:solidFill>
                <a:srgbClr val="000000"/>
              </a:solidFill>
              <a:latin typeface="Arial"/>
            </a:endParaRPr>
          </a:p>
        </p:txBody>
      </p:sp>
      <p:sp>
        <p:nvSpPr>
          <p:cNvPr id="89" name=""/>
          <p:cNvSpPr/>
          <p:nvPr/>
        </p:nvSpPr>
        <p:spPr>
          <a:xfrm flipH="1">
            <a:off x="2666880" y="2590920"/>
            <a:ext cx="4572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a:off x="4038120" y="2590920"/>
            <a:ext cx="38124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867280" y="2590920"/>
            <a:ext cx="22860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a:off x="4191120" y="2590920"/>
            <a:ext cx="380880" cy="60948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019920" y="2590920"/>
            <a:ext cx="228600" cy="60948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H="1">
            <a:off x="3657600" y="4495680"/>
            <a:ext cx="38088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752480" y="4648320"/>
            <a:ext cx="2286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H="1">
            <a:off x="3809520" y="4495680"/>
            <a:ext cx="381240" cy="68580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H="1">
            <a:off x="6172200" y="5638680"/>
            <a:ext cx="53352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a:off x="6172200" y="5410080"/>
            <a:ext cx="5335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768720" y="5181480"/>
            <a:ext cx="1346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89"/>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9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9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92"/>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9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94"/>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9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96"/>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97"/>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15:56:31Z</dcterms:created>
  <dc:creator>Chris Stecker</dc:creator>
  <dc:description/>
  <dc:language>en-US</dc:language>
  <cp:lastModifiedBy>Chris Stecker</cp:lastModifiedBy>
  <dcterms:modified xsi:type="dcterms:W3CDTF">2007-07-09T23:36:28Z</dcterms:modified>
  <cp:revision>18</cp:revision>
  <dc:subject/>
  <dc:title>Slide 1</dc:title>
</cp:coreProperties>
</file>