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AC972-AA32-4129-A8B6-B5221F98E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8DAC9-DC1F-4693-9958-A46011D45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CBEB6-F10B-4A05-960D-4D598712F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B17F9-8FA6-4F08-BC2A-B023227C4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6639B-C5C4-4A77-85BF-39B434BE1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BB198-3286-4EBD-8290-35881CA33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3C184-511F-4785-9A57-3B02878B5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D8422-A4E8-48E3-8749-81579EEA5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FEAF6-6239-4EA6-B5FD-7621F6BF6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096D4-93D8-46B8-A6FB-56C5E5256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0845B-2D6C-4465-A9D2-2A28BD94F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49EE4-0DAE-4102-A4A1-BCDB282E4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9F46-49C9-4FD5-B2B6-A414E52E4E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tract Program for Experiments</a:t>
            </a:r>
            <a:br>
              <a:rPr sz="4000"/>
            </a:br>
            <a:r>
              <a:rPr b="0" lang="en-US" sz="4000" spc="-1" strike="noStrike">
                <a:solidFill>
                  <a:srgbClr val="000000"/>
                </a:solidFill>
                <a:latin typeface="Arial"/>
              </a:rPr>
              <a:t>(codename AP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 9 July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 Stec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sti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im parameters set </a:t>
            </a:r>
            <a:r>
              <a:rPr b="0" lang="en-US" sz="2400" spc="-1" strike="noStrike">
                <a:solidFill>
                  <a:srgbClr val="000000"/>
                </a:solidFill>
                <a:latin typeface="Arial"/>
              </a:rPr>
              <a:t>	</a:t>
            </a:r>
            <a:r>
              <a:rPr b="0" lang="en-US" sz="2400" spc="-1" strike="noStrike">
                <a:solidFill>
                  <a:srgbClr val="000000"/>
                </a:solidFill>
                <a:latin typeface="Arial"/>
              </a:rPr>
              <a:t>in experi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 TDT control tags defined </a:t>
            </a:r>
            <a:r>
              <a:rPr b="0" lang="en-US" sz="2400" spc="-1" strike="noStrike">
                <a:solidFill>
                  <a:srgbClr val="000000"/>
                </a:solidFill>
                <a:latin typeface="Arial"/>
              </a:rPr>
              <a:t>	</a:t>
            </a:r>
            <a:r>
              <a:rPr b="0" lang="en-US" sz="2400" spc="-1" strike="noStrike">
                <a:solidFill>
                  <a:srgbClr val="000000"/>
                </a:solidFill>
                <a:latin typeface="Arial"/>
              </a:rPr>
              <a:t>in .rcx f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hand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timFunc – generate tags from par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Func – upload tags to RP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Func – trigger RP2</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486400" y="1600200"/>
            <a:ext cx="32004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 – construc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MakeSti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ad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responder</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ru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Data – struc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hand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ResponseFunc – make TDT ready (reset lat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espons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Feedback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ForSubject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DoneFunc</a:t>
            </a:r>
            <a:endParaRPr b="0" lang="en-US" sz="2400" spc="-1" strike="noStrike">
              <a:solidFill>
                <a:srgbClr val="000000"/>
              </a:solidFill>
              <a:latin typeface="Arial"/>
            </a:endParaRPr>
          </a:p>
        </p:txBody>
      </p:sp>
      <p:sp>
        <p:nvSpPr>
          <p:cNvPr id="105" name="PlaceHolder 3"/>
          <p:cNvSpPr>
            <a:spLocks noGrp="1"/>
          </p:cNvSpPr>
          <p:nvPr>
            <p:ph/>
          </p:nvPr>
        </p:nvSpPr>
        <p:spPr>
          <a:xfrm>
            <a:off x="5105520" y="1600200"/>
            <a:ext cx="35812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pRespo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GetRespo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WaitForSu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ell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responder</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typ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s of functions define default or “canned” behavior for different types of respon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efault’ uses command line</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defaultGetResponseFunc(r); etc.</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box’ uses TDT rbox</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boxGetResponseFunc(r,p); etc.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s access to presenter object</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i’ puts up a simple window with N butto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guiGetResponseFunc(r,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i2’ similar but window is maintained across trial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gui2GetResponseFunc(r,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nit responder by including ‘type’ as first arg to responde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responder(‘type’,’rbox’); creates default rbox respon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tracker</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 string (‘levitt’)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s – stru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 stru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ldata – array of stru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hand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Func – set up 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Func – update track based on respon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ValueFunc – tell experiment about next sti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Func – plot 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Func – report results (thresh?)</a:t>
            </a:r>
            <a:endParaRPr b="0" lang="en-US" sz="2000" spc="-1" strike="noStrike">
              <a:solidFill>
                <a:srgbClr val="000000"/>
              </a:solidFill>
              <a:latin typeface="Arial"/>
            </a:endParaRPr>
          </a:p>
        </p:txBody>
      </p:sp>
      <p:sp>
        <p:nvSpPr>
          <p:cNvPr id="110" name="PlaceHolder 3"/>
          <p:cNvSpPr>
            <a:spLocks noGrp="1"/>
          </p:cNvSpPr>
          <p:nvPr>
            <p:ph/>
          </p:nvPr>
        </p:nvSpPr>
        <p:spPr>
          <a:xfrm>
            <a:off x="5105520" y="1600200"/>
            <a:ext cx="35812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Upd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ext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lo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Don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status.d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tracker</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er ‘typ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for responders, defined collections of functions for different tracker behavi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ault’ – not yet defined. likely will be MC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evitt’ – N up / M down adaptive track.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levittUpdateFunc(t,trial,resp,target); et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s and wastes arbitrary numbers of reversal, shifts between multiple step sizes, etc.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cs’ – method of constant stimu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mcsUpdateFunc(t,trial); etc</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t tracker type at ini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tracker(‘type’,’levit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presenter (slot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 struct, manages activeX handles by dev type </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2  (array of RP2 actx)</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5 (et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ructs similarly manage device dat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_files (fields are cell arrays of .rcx or .rco file nam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rate (fields contain samprates of RP dev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ags (fields are cell arrays of tag names defined by rcx fi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fields are status of each devic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_commands – cell array of arguments to add_devi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recreate() to create new presenter object identical to this one, but run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E Objects: presenter (method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 construc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_device() – main implementation c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_de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ad_circuit() – force reload from disk, change file or sampra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e() – reinstantiate all (recovers from power dow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_tag_val() – TDT wrapper for SetTagVal and WriteTag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_tag_val() – TDT wrapper to GetTagVal and ReadTag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_trig() – TDT wrapper to SoftT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_trig() – TDT wrapper to ZTri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_atten() – control PA5 atten, or set atten_X tags on RP2 / RM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5_display() – control display of PA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oll_text() – scroll messages on PA5 display (glitch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_TD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t_TD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 (slot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param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data – array of struc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r - obje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 obje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 – array of tracker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_templates –array or </a:t>
            </a:r>
            <a:r>
              <a:rPr b="0" lang="en-US" sz="2400" spc="-1" strike="noStrike">
                <a:solidFill>
                  <a:srgbClr val="000000"/>
                </a:solidFill>
                <a:latin typeface="Arial"/>
              </a:rPr>
              <a:t>	</a:t>
            </a:r>
            <a:r>
              <a:rPr b="0" lang="en-US" sz="2400" spc="-1" strike="noStrike">
                <a:solidFill>
                  <a:srgbClr val="000000"/>
                </a:solidFill>
                <a:latin typeface="Arial"/>
              </a:rPr>
              <a:t>struct of stim objec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_stim – array of stim </a:t>
            </a:r>
            <a:r>
              <a:rPr b="0" lang="en-US" sz="2400" spc="-1" strike="noStrike">
                <a:solidFill>
                  <a:srgbClr val="000000"/>
                </a:solidFill>
                <a:latin typeface="Arial"/>
              </a:rPr>
              <a:t>	</a:t>
            </a:r>
            <a:r>
              <a:rPr b="0" lang="en-US" sz="2400" spc="-1" strike="noStrike">
                <a:solidFill>
                  <a:srgbClr val="000000"/>
                </a:solidFill>
                <a:latin typeface="Arial"/>
              </a:rPr>
              <a:t>object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s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ata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apupFun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E Objects: experiment (methods)</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it() – init other objects &amp; data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pTrial() – construct trial_st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Trial() – present stim, response, 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portTrial() – update experimenter’s 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ause() – anything that needs doing at pau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sume() – …at resume (recreate presen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SaveData() – write objects and/or data to dis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Wrapup() – anything 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kers – array of tracker objec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length 1: single track (default)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2+: prepTrialFunc should be choosing a track to update on each tri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stim_templates – can be array of stim objec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 may have 20 frozen noise stim. Draw one on each tri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stim_templates – can be struct of stim objects, e.g.:</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stim_templates.A  defines stim type A, .B defines stim type B</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stim type for each interv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ial_stim – the actual stim to call goMakeStim, etc. on</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array of stim, 1 per interval (defaul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single stim whose params are adjusted for each inter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44" name="PlaceHolder 2"/>
          <p:cNvSpPr>
            <a:spLocks noGrp="1"/>
          </p:cNvSpPr>
          <p:nvPr>
            <p:ph/>
          </p:nvPr>
        </p:nvSpPr>
        <p:spPr>
          <a:xfrm>
            <a:off x="456840" y="1371600"/>
            <a:ext cx="84582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framework for experiments usingTDT and MATLA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nderstand progra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ng key program elem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of programs across experiment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customize – modular desig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 replace / upgrade modu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multiple vers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anned” modules for common tasks (TDT wrapper, Trackers, etc,)</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evice” independ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to different TDT (or non-TDT) setups, different method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data - array (1 by Ntrials) of stru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lement contains values for all trial-varying parameters and data, e.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ed stimulus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ved stimulus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interval / correct respon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and reaction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numb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estimates of threshold,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s also define trialdata, but only include trials for that trac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ed valu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arge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reversal,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periment objects have sensible ‘default’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ResumeFunc() recreates ex.presenter</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should be overridden by study-specific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PrepTrial()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ex.params.intervals (‘AXXA’)…</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generate trial_stim ([stimA stimA stimB stimA])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stim contained in stim_templates.A, stim_templates.B, etc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experiment will probably do something differ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sing, Saving, Resuming for long ru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status fiel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status.currentTrial</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status.paus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esign your main loop using </a:t>
            </a:r>
            <a:r>
              <a:rPr b="0" lang="en-US" sz="2000" spc="-1" strike="noStrike">
                <a:solidFill>
                  <a:srgbClr val="000000"/>
                </a:solidFill>
                <a:latin typeface="Courier New"/>
              </a:rPr>
              <a:t>while</a:t>
            </a:r>
            <a:r>
              <a:rPr b="0" lang="en-US" sz="2000" spc="-1" strike="noStrike">
                <a:solidFill>
                  <a:srgbClr val="000000"/>
                </a:solidFill>
                <a:latin typeface="Arial"/>
              </a:rPr>
              <a:t> rather than </a:t>
            </a:r>
            <a:r>
              <a:rPr b="0" lang="en-US" sz="2000" spc="-1" strike="noStrike">
                <a:solidFill>
                  <a:srgbClr val="000000"/>
                </a:solidFill>
                <a:latin typeface="Courier New"/>
              </a:rPr>
              <a:t>for</a:t>
            </a:r>
            <a:r>
              <a:rPr b="0" lang="en-US" sz="2000" spc="-1" strike="noStrike">
                <a:solidFill>
                  <a:srgbClr val="000000"/>
                </a:solidFill>
                <a:latin typeface="Arial"/>
              </a:rPr>
              <a:t>, or set up your </a:t>
            </a:r>
            <a:r>
              <a:rPr b="0" lang="en-US" sz="2000" spc="-1" strike="noStrike">
                <a:solidFill>
                  <a:srgbClr val="000000"/>
                </a:solidFill>
                <a:latin typeface="Courier New"/>
              </a:rPr>
              <a:t>for</a:t>
            </a:r>
            <a:r>
              <a:rPr b="0" lang="en-US" sz="2000" spc="-1" strike="noStrike">
                <a:solidFill>
                  <a:srgbClr val="000000"/>
                </a:solidFill>
                <a:latin typeface="Arial"/>
              </a:rPr>
              <a:t> loop with ex.status.currentTrial in min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loop can start up at arbitrary trial numb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can be “paused,” then “resumed” lat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 ex object to disk allows to resume after loa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T status may have changed…set ex.resumeFunc to call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resenter = recreate(ex.presenter);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saveDataFunc: save the object, possibly also save xls or dlm fi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programming decisions</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APE to u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only (to simplify TDT interf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 stim + respond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experiment object only to store data &amp; objects; write presentation, etc. functions directly in main program.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experiment methods (goInit) etc to compartmentalize functions (as subfunctions within main file or separate m-fil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im or two?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eriments could use one stim object, modifying its params between intervals (to turn a tone on / off,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is to generate one stim for each interv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cases, no difference. Choose according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programming decision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types vs object clas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approach allows to incorporate new functionality by subclassing (new objects that inherit behavior of par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E approach has been instead to make objects general enough that different ‘types’ of each object can be created by supplying different function handles and appropriate contents for params, status, et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xperiment will have its own ‘type’ of stim, responder, tracker, and experiment objects (though many default functions may be used, at least a few will be custom). Some of these custom types (or their component functions) might get re-used in other experiment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ould subclassing become necessary? Nev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to do</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racker typ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xample experiment progra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icon 16-tracker ripple study, NIH IRN study, UW head-tracked studies, other basic paradigms (single-interval tone-in-noise, et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integ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tty straightforward. Expect GUI to collect params prior to object initialization, monitor pause, plot track(s), et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checkl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complete docum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out the MATLAB hel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 manua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Decisi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oriented programm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s data in easy-to-maintain 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ng with relevant functions (class metho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regation of m-files by type (e.g. all TDT func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implify access to hide implement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presenter.get_tag_val</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expansion / upgrade via subcla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Decisions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hand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store data (e.g. stim.params) and function handles (e.g. stim.makeStimFun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s locking behavior to object metho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doesn’t require subclass for every exp’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code for APE objects is </a:t>
            </a:r>
            <a:r>
              <a:rPr b="0" i="1" lang="en-US" sz="2800" spc="-1" strike="noStrike">
                <a:solidFill>
                  <a:srgbClr val="000000"/>
                </a:solidFill>
                <a:latin typeface="Arial"/>
              </a:rPr>
              <a:t>abstract,</a:t>
            </a:r>
            <a:r>
              <a:rPr b="0" lang="en-US" sz="2800" spc="-1" strike="noStrike">
                <a:solidFill>
                  <a:srgbClr val="000000"/>
                </a:solidFill>
                <a:latin typeface="Arial"/>
              </a:rPr>
              <a:t> not specific regarding methods and ev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stim.params not stim.fre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dat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objects have slots which hold structures of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s (struct of parame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unctions can fill those structures in any appropriat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functions</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mmon action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ke a new stimulu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epare the hardware for next tri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esent a t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ction has two ele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that does what needs to happ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method “goX” that triggers the func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ction is specified by a function hand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makeStimFun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t by user to </a:t>
            </a:r>
            <a:r>
              <a:rPr b="0" i="1" lang="en-US" sz="2400" spc="-1" strike="noStrike">
                <a:solidFill>
                  <a:srgbClr val="000000"/>
                </a:solidFill>
                <a:latin typeface="Arial"/>
              </a:rPr>
              <a:t>any</a:t>
            </a:r>
            <a:r>
              <a:rPr b="0" lang="en-US" sz="2400" spc="-1" strike="noStrike">
                <a:solidFill>
                  <a:srgbClr val="000000"/>
                </a:solidFill>
                <a:latin typeface="Arial"/>
              </a:rPr>
              <a:t> function on pa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functions do appropriate things in most cas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only ever triggered by “goX” in user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4" name=""/>
          <p:cNvSpPr/>
          <p:nvPr/>
        </p:nvSpPr>
        <p:spPr>
          <a:xfrm>
            <a:off x="2825640" y="1981080"/>
            <a:ext cx="1895400" cy="201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tim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y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Func</a:t>
            </a:r>
            <a:endParaRPr b="0" lang="en-US" sz="1800" spc="-1" strike="noStrike">
              <a:solidFill>
                <a:srgbClr val="000000"/>
              </a:solidFill>
              <a:latin typeface="Arial"/>
            </a:endParaRPr>
          </a:p>
        </p:txBody>
      </p:sp>
      <p:sp>
        <p:nvSpPr>
          <p:cNvPr id="55" name=""/>
          <p:cNvSpPr/>
          <p:nvPr/>
        </p:nvSpPr>
        <p:spPr>
          <a:xfrm>
            <a:off x="762120" y="144792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klevel</a:t>
            </a:r>
            <a:endParaRPr b="0" lang="en-US" sz="1800" spc="-1" strike="noStrike">
              <a:solidFill>
                <a:srgbClr val="000000"/>
              </a:solidFill>
              <a:latin typeface="Arial"/>
            </a:endParaRPr>
          </a:p>
        </p:txBody>
      </p:sp>
      <p:sp>
        <p:nvSpPr>
          <p:cNvPr id="56" name=""/>
          <p:cNvSpPr/>
          <p:nvPr/>
        </p:nvSpPr>
        <p:spPr>
          <a:xfrm>
            <a:off x="762120" y="320040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iseAmp</a:t>
            </a:r>
            <a:endParaRPr b="0" lang="en-US" sz="1800" spc="-1" strike="noStrike">
              <a:solidFill>
                <a:srgbClr val="000000"/>
              </a:solidFill>
              <a:latin typeface="Arial"/>
            </a:endParaRPr>
          </a:p>
        </p:txBody>
      </p:sp>
      <p:sp>
        <p:nvSpPr>
          <p:cNvPr id="57" name=""/>
          <p:cNvSpPr/>
          <p:nvPr/>
        </p:nvSpPr>
        <p:spPr>
          <a:xfrm>
            <a:off x="5902200" y="213372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 name=""/>
          <p:cNvSpPr/>
          <p:nvPr/>
        </p:nvSpPr>
        <p:spPr>
          <a:xfrm flipH="1" flipV="1">
            <a:off x="2361960" y="220932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438280" y="27432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648320" y="1828800"/>
            <a:ext cx="106668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641200" y="152388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a:t>
            </a:r>
            <a:endParaRPr b="0" lang="en-US" sz="1800" spc="-1" strike="noStrike">
              <a:solidFill>
                <a:srgbClr val="000000"/>
              </a:solidFill>
              <a:latin typeface="Arial"/>
            </a:endParaRPr>
          </a:p>
        </p:txBody>
      </p:sp>
      <p:sp>
        <p:nvSpPr>
          <p:cNvPr id="62" name=""/>
          <p:cNvSpPr/>
          <p:nvPr/>
        </p:nvSpPr>
        <p:spPr>
          <a:xfrm>
            <a:off x="5641920" y="457200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a:t>
            </a:r>
            <a:endParaRPr b="0" lang="en-US" sz="1800" spc="-1" strike="noStrike">
              <a:solidFill>
                <a:srgbClr val="000000"/>
              </a:solidFill>
              <a:latin typeface="Arial"/>
            </a:endParaRPr>
          </a:p>
        </p:txBody>
      </p:sp>
      <p:sp>
        <p:nvSpPr>
          <p:cNvPr id="63" name=""/>
          <p:cNvSpPr/>
          <p:nvPr/>
        </p:nvSpPr>
        <p:spPr>
          <a:xfrm>
            <a:off x="5642280" y="38862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ReadyFunc</a:t>
            </a:r>
            <a:endParaRPr b="0" lang="en-US" sz="1800" spc="-1" strike="noStrike">
              <a:solidFill>
                <a:srgbClr val="000000"/>
              </a:solidFill>
              <a:latin typeface="Arial"/>
            </a:endParaRPr>
          </a:p>
        </p:txBody>
      </p:sp>
      <p:sp>
        <p:nvSpPr>
          <p:cNvPr id="64" name=""/>
          <p:cNvSpPr/>
          <p:nvPr/>
        </p:nvSpPr>
        <p:spPr>
          <a:xfrm>
            <a:off x="4343400" y="3581280"/>
            <a:ext cx="1295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419720" y="38862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7" name=""/>
          <p:cNvSpPr/>
          <p:nvPr/>
        </p:nvSpPr>
        <p:spPr>
          <a:xfrm>
            <a:off x="2825640" y="1981080"/>
            <a:ext cx="1895400" cy="201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tim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y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Func</a:t>
            </a:r>
            <a:endParaRPr b="0" lang="en-US" sz="1800" spc="-1" strike="noStrike">
              <a:solidFill>
                <a:srgbClr val="000000"/>
              </a:solidFill>
              <a:latin typeface="Arial"/>
            </a:endParaRPr>
          </a:p>
        </p:txBody>
      </p:sp>
      <p:sp>
        <p:nvSpPr>
          <p:cNvPr id="68" name=""/>
          <p:cNvSpPr/>
          <p:nvPr/>
        </p:nvSpPr>
        <p:spPr>
          <a:xfrm>
            <a:off x="5902200" y="502920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666880" y="5029200"/>
            <a:ext cx="241956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resent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762120" y="144792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klevel</a:t>
            </a:r>
            <a:endParaRPr b="0" lang="en-US" sz="1800" spc="-1" strike="noStrike">
              <a:solidFill>
                <a:srgbClr val="000000"/>
              </a:solidFill>
              <a:latin typeface="Arial"/>
            </a:endParaRPr>
          </a:p>
        </p:txBody>
      </p:sp>
      <p:sp>
        <p:nvSpPr>
          <p:cNvPr id="71" name=""/>
          <p:cNvSpPr/>
          <p:nvPr/>
        </p:nvSpPr>
        <p:spPr>
          <a:xfrm>
            <a:off x="762120" y="320040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iseAmp</a:t>
            </a:r>
            <a:endParaRPr b="0" lang="en-US" sz="1800" spc="-1" strike="noStrike">
              <a:solidFill>
                <a:srgbClr val="000000"/>
              </a:solidFill>
              <a:latin typeface="Arial"/>
            </a:endParaRPr>
          </a:p>
        </p:txBody>
      </p:sp>
      <p:sp>
        <p:nvSpPr>
          <p:cNvPr id="72" name=""/>
          <p:cNvSpPr/>
          <p:nvPr/>
        </p:nvSpPr>
        <p:spPr>
          <a:xfrm>
            <a:off x="5902200" y="213372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
          <p:cNvSpPr/>
          <p:nvPr/>
        </p:nvSpPr>
        <p:spPr>
          <a:xfrm flipH="1" flipV="1">
            <a:off x="2361960" y="220932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2438280" y="27432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4648320" y="1828800"/>
            <a:ext cx="106668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41200" y="152388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a:t>
            </a:r>
            <a:endParaRPr b="0" lang="en-US" sz="1800" spc="-1" strike="noStrike">
              <a:solidFill>
                <a:srgbClr val="000000"/>
              </a:solidFill>
              <a:latin typeface="Arial"/>
            </a:endParaRPr>
          </a:p>
        </p:txBody>
      </p:sp>
      <p:sp>
        <p:nvSpPr>
          <p:cNvPr id="77" name=""/>
          <p:cNvSpPr/>
          <p:nvPr/>
        </p:nvSpPr>
        <p:spPr>
          <a:xfrm>
            <a:off x="2669400" y="4572000"/>
            <a:ext cx="201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resentFunc</a:t>
            </a:r>
            <a:endParaRPr b="0" lang="en-US" sz="1800" spc="-1" strike="noStrike">
              <a:solidFill>
                <a:srgbClr val="000000"/>
              </a:solidFill>
              <a:latin typeface="Arial"/>
            </a:endParaRPr>
          </a:p>
        </p:txBody>
      </p:sp>
      <p:sp>
        <p:nvSpPr>
          <p:cNvPr id="78" name=""/>
          <p:cNvSpPr/>
          <p:nvPr/>
        </p:nvSpPr>
        <p:spPr>
          <a:xfrm>
            <a:off x="5641920" y="457200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a:t>
            </a:r>
            <a:endParaRPr b="0" lang="en-US" sz="1800" spc="-1" strike="noStrike">
              <a:solidFill>
                <a:srgbClr val="000000"/>
              </a:solidFill>
              <a:latin typeface="Arial"/>
            </a:endParaRPr>
          </a:p>
        </p:txBody>
      </p:sp>
      <p:sp>
        <p:nvSpPr>
          <p:cNvPr id="79" name=""/>
          <p:cNvSpPr/>
          <p:nvPr/>
        </p:nvSpPr>
        <p:spPr>
          <a:xfrm>
            <a:off x="5642280" y="38862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ReadyFunc</a:t>
            </a:r>
            <a:endParaRPr b="0" lang="en-US" sz="1800" spc="-1" strike="noStrike">
              <a:solidFill>
                <a:srgbClr val="000000"/>
              </a:solidFill>
              <a:latin typeface="Arial"/>
            </a:endParaRPr>
          </a:p>
        </p:txBody>
      </p:sp>
      <p:sp>
        <p:nvSpPr>
          <p:cNvPr id="80" name=""/>
          <p:cNvSpPr/>
          <p:nvPr/>
        </p:nvSpPr>
        <p:spPr>
          <a:xfrm>
            <a:off x="4343400" y="3581280"/>
            <a:ext cx="1295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419720" y="38862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429000" y="3962520"/>
            <a:ext cx="3808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81"/>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78"/>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a:t>
            </a:r>
            <a:endParaRPr b="0" lang="en-US" sz="4400" spc="-1" strike="noStrike">
              <a:solidFill>
                <a:srgbClr val="000000"/>
              </a:solidFill>
              <a:latin typeface="Arial"/>
            </a:endParaRPr>
          </a:p>
        </p:txBody>
      </p:sp>
      <p:sp>
        <p:nvSpPr>
          <p:cNvPr id="84" name=""/>
          <p:cNvSpPr/>
          <p:nvPr/>
        </p:nvSpPr>
        <p:spPr>
          <a:xfrm>
            <a:off x="2980800" y="1371600"/>
            <a:ext cx="323640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ins other ob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ages main l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ndles save/pause/resume</a:t>
            </a:r>
            <a:endParaRPr b="0" lang="en-US" sz="1800" spc="-1" strike="noStrike">
              <a:solidFill>
                <a:srgbClr val="000000"/>
              </a:solidFill>
              <a:latin typeface="Arial"/>
            </a:endParaRPr>
          </a:p>
        </p:txBody>
      </p:sp>
      <p:sp>
        <p:nvSpPr>
          <p:cNvPr id="85" name=""/>
          <p:cNvSpPr/>
          <p:nvPr/>
        </p:nvSpPr>
        <p:spPr>
          <a:xfrm>
            <a:off x="5799240" y="3276720"/>
            <a:ext cx="311148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rmines next st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cks / plots 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sponds to single track</a:t>
            </a:r>
            <a:endParaRPr b="0" lang="en-US" sz="1800" spc="-1" strike="noStrike">
              <a:solidFill>
                <a:srgbClr val="000000"/>
              </a:solidFill>
              <a:latin typeface="Arial"/>
            </a:endParaRPr>
          </a:p>
        </p:txBody>
      </p:sp>
      <p:sp>
        <p:nvSpPr>
          <p:cNvPr id="86" name=""/>
          <p:cNvSpPr/>
          <p:nvPr/>
        </p:nvSpPr>
        <p:spPr>
          <a:xfrm>
            <a:off x="616320" y="5200560"/>
            <a:ext cx="453636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apper for TDT / stores activeX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access to TDT tags &amp;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s info necessary to recreate itself</a:t>
            </a:r>
            <a:endParaRPr b="0" lang="en-US" sz="1800" spc="-1" strike="noStrike">
              <a:solidFill>
                <a:srgbClr val="000000"/>
              </a:solidFill>
              <a:latin typeface="Arial"/>
            </a:endParaRPr>
          </a:p>
        </p:txBody>
      </p:sp>
      <p:sp>
        <p:nvSpPr>
          <p:cNvPr id="87" name=""/>
          <p:cNvSpPr/>
          <p:nvPr/>
        </p:nvSpPr>
        <p:spPr>
          <a:xfrm>
            <a:off x="3283560" y="3276720"/>
            <a:ext cx="230076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face to 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ects res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s feedback</a:t>
            </a:r>
            <a:endParaRPr b="0" lang="en-US" sz="1800" spc="-1" strike="noStrike">
              <a:solidFill>
                <a:srgbClr val="000000"/>
              </a:solidFill>
              <a:latin typeface="Arial"/>
            </a:endParaRPr>
          </a:p>
        </p:txBody>
      </p:sp>
      <p:sp>
        <p:nvSpPr>
          <p:cNvPr id="88" name=""/>
          <p:cNvSpPr/>
          <p:nvPr/>
        </p:nvSpPr>
        <p:spPr>
          <a:xfrm>
            <a:off x="235080" y="3124080"/>
            <a:ext cx="2822040" cy="146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ipe for stimu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s stim 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rts params to tags</a:t>
            </a:r>
            <a:br>
              <a:rPr sz="1800"/>
            </a:br>
            <a:r>
              <a:rPr b="0" lang="en-US" sz="1800" spc="-1" strike="noStrike">
                <a:solidFill>
                  <a:srgbClr val="000000"/>
                </a:solidFill>
                <a:latin typeface="Arial"/>
              </a:rPr>
              <a:t>     (TDT settings)</a:t>
            </a:r>
            <a:endParaRPr b="0" lang="en-US" sz="1800" spc="-1" strike="noStrike">
              <a:solidFill>
                <a:srgbClr val="000000"/>
              </a:solidFill>
              <a:latin typeface="Arial"/>
            </a:endParaRPr>
          </a:p>
        </p:txBody>
      </p:sp>
      <p:sp>
        <p:nvSpPr>
          <p:cNvPr id="89" name=""/>
          <p:cNvSpPr/>
          <p:nvPr/>
        </p:nvSpPr>
        <p:spPr>
          <a:xfrm flipH="1">
            <a:off x="2666880" y="259092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4038120" y="2590920"/>
            <a:ext cx="3812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67280" y="2590920"/>
            <a:ext cx="2286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191120" y="2590920"/>
            <a:ext cx="380880" cy="60948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19920" y="2590920"/>
            <a:ext cx="228600" cy="60948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3657600" y="4495680"/>
            <a:ext cx="3808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752480" y="4648320"/>
            <a:ext cx="2286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3809520" y="4495680"/>
            <a:ext cx="381240" cy="6858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6172200" y="5638680"/>
            <a:ext cx="53352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6172200" y="5410080"/>
            <a:ext cx="5335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768720" y="5181480"/>
            <a:ext cx="134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56:31Z</dcterms:created>
  <dc:creator>Chris Stecker</dc:creator>
  <dc:description/>
  <dc:language>en-US</dc:language>
  <cp:lastModifiedBy>Chris Stecker</cp:lastModifiedBy>
  <dcterms:modified xsi:type="dcterms:W3CDTF">2007-07-09T23:36:28Z</dcterms:modified>
  <cp:revision>18</cp:revision>
  <dc:subject/>
  <dc:title>Slide 1</dc:title>
</cp:coreProperties>
</file>